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996-1967-4DCE-A6A2-BF8E7A0B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647-F7D0-4E3A-BEBF-E4AB5775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67E-C693-4DFF-A7B7-6E9EBDF6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2C1-F7E4-4BF0-8445-B22EC67D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716-6BC4-4673-B680-00E19359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BFB-5FA0-4AF7-A6B7-B0530607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F68-747C-4DF1-8C83-1B60F501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30F-6FD9-43A4-8F4D-AC7AC76E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22F-541E-4317-86F6-41DA31DF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F44-A074-465D-8A22-6605D349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AD43-3470-442B-8EC1-24165000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AD0-FF24-4C9A-B821-2DBC72C4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66DE-E43D-42AA-9E22-C50483710C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85256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8604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3"/>
          <a:stretch/>
        </p:blipFill>
        <p:spPr>
          <a:xfrm>
            <a:off x="1420920" y="2457360"/>
            <a:ext cx="3011400" cy="68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tretch/>
        </p:blipFill>
        <p:spPr>
          <a:xfrm>
            <a:off x="5724360" y="2097000"/>
            <a:ext cx="2808360" cy="19083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2614680" y="5761080"/>
            <a:ext cx="6132600" cy="6206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1328760" y="5224320"/>
            <a:ext cx="720576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1311120" y="4359240"/>
            <a:ext cx="7077240" cy="82872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1298520" y="385272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9"/>
          <a:stretch/>
        </p:blipFill>
        <p:spPr>
          <a:xfrm>
            <a:off x="1322280" y="341316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1"/>
          <a:stretch/>
        </p:blipFill>
        <p:spPr>
          <a:xfrm>
            <a:off x="500040" y="4809960"/>
            <a:ext cx="8053560" cy="7686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341280" y="2073240"/>
            <a:ext cx="8193240" cy="889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6148440" y="4581360"/>
            <a:ext cx="2392200" cy="17272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517680" y="5956200"/>
            <a:ext cx="8059680" cy="40176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523800" y="5529240"/>
            <a:ext cx="8059680" cy="3952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2395440" y="4254480"/>
            <a:ext cx="4230720" cy="4032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2382840" y="3773520"/>
            <a:ext cx="590724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500040" y="3371760"/>
            <a:ext cx="8058240" cy="40176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500040" y="3029040"/>
            <a:ext cx="8053560" cy="403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4" descr=""/>
          <p:cNvPicPr/>
          <p:nvPr/>
        </p:nvPicPr>
        <p:blipFill>
          <a:blip r:embed="rId10"/>
          <a:stretch/>
        </p:blipFill>
        <p:spPr>
          <a:xfrm>
            <a:off x="682560" y="1054080"/>
            <a:ext cx="78519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2:00:43Z</dcterms:created>
  <dc:creator/>
  <dc:description/>
  <dc:language>en-US</dc:language>
  <cp:lastModifiedBy/>
  <dcterms:modified xsi:type="dcterms:W3CDTF">2011-12-08T12:03:57Z</dcterms:modified>
  <cp:revision>1</cp:revision>
  <dc:subject/>
  <dc:title/>
</cp:coreProperties>
</file>