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151-BE90-480D-8F23-68C09B56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27F-748A-4DCF-90C8-9F882572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1AE-E16E-4CB1-BABC-4F6F621E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D66-54C1-47D8-B393-041AA1E9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5D0-358A-424E-9852-2C5BBED1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AA6-DFFD-49CD-9DF7-BF05A2D3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F51-6017-4FDC-AC48-2DE56784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C40-EA5E-405B-9C79-10795411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394-4BBD-4AA5-9F9C-6EDFBD0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BBD-BF6B-467B-9D5C-F4A315B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96F-89B0-497E-A5A6-5CE1B20B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883-5302-4F6E-917C-3F9D92F2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CF2C-17A0-4202-8D25-0CC717CDEB0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946080" y="2349360"/>
            <a:ext cx="71406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749160" y="2998800"/>
            <a:ext cx="4316400" cy="9637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2697120" cy="21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928800" y="2133720"/>
            <a:ext cx="5832360" cy="6458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1328760" y="4029120"/>
            <a:ext cx="181116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884160" y="4621320"/>
            <a:ext cx="446904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1"/>
          <a:stretch/>
        </p:blipFill>
        <p:spPr>
          <a:xfrm>
            <a:off x="353880" y="3975120"/>
            <a:ext cx="8363160" cy="7984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58580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6" descr=""/>
          <p:cNvPicPr/>
          <p:nvPr/>
        </p:nvPicPr>
        <p:blipFill>
          <a:blip r:embed="rId3"/>
          <a:stretch/>
        </p:blipFill>
        <p:spPr>
          <a:xfrm>
            <a:off x="6151680" y="4071960"/>
            <a:ext cx="2388960" cy="65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024600" y="4799160"/>
            <a:ext cx="2536920" cy="162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5"/>
          <a:stretch/>
        </p:blipFill>
        <p:spPr>
          <a:xfrm>
            <a:off x="928800" y="2867040"/>
            <a:ext cx="583236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6"/>
          <a:stretch/>
        </p:blipFill>
        <p:spPr>
          <a:xfrm>
            <a:off x="1316160" y="513864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7"/>
          <a:stretch/>
        </p:blipFill>
        <p:spPr>
          <a:xfrm>
            <a:off x="871560" y="466416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8"/>
          <a:stretch/>
        </p:blipFill>
        <p:spPr>
          <a:xfrm>
            <a:off x="506520" y="360216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51:26Z</dcterms:created>
  <dc:creator/>
  <dc:description/>
  <dc:language>en-US</dc:language>
  <cp:lastModifiedBy/>
  <dcterms:modified xsi:type="dcterms:W3CDTF">2015-06-12T12:44:57Z</dcterms:modified>
  <cp:revision>1</cp:revision>
  <dc:subject/>
  <dc:title/>
</cp:coreProperties>
</file>