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347-8BF7-4B52-BE42-9F9B5C56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202-A408-4725-BB6D-EA0C1B95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AB6-EDA5-4D9D-9AEE-D9315A13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C93-9DFA-439C-9351-6E1036F5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A3C-D70E-470F-B8CB-0D4E68F1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41E-CE42-45BC-BD67-0A406F38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A7C-F8F0-44F1-B6AF-F6040631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987-5381-4E57-B474-0076E9B2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5C0-E260-4678-864D-D6E22BD8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B40-FFFC-4ADE-982F-FA6C4742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FC7-1E24-43DA-BCFC-7906FB51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EA7-C742-495E-944D-8FF82F1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BE13-559D-4DFA-B23A-CB4C8C9C00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628560" y="2225520"/>
            <a:ext cx="8229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2" descr=""/>
          <p:cNvPicPr/>
          <p:nvPr/>
        </p:nvPicPr>
        <p:blipFill>
          <a:blip r:embed="rId1"/>
          <a:stretch/>
        </p:blipFill>
        <p:spPr>
          <a:xfrm>
            <a:off x="500040" y="4334040"/>
            <a:ext cx="805824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2"/>
          <a:stretch/>
        </p:blipFill>
        <p:spPr>
          <a:xfrm>
            <a:off x="487440" y="3462480"/>
            <a:ext cx="8053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3"/>
          <a:stretch/>
        </p:blipFill>
        <p:spPr>
          <a:xfrm>
            <a:off x="341280" y="178596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7" descr=""/>
          <p:cNvPicPr/>
          <p:nvPr/>
        </p:nvPicPr>
        <p:blipFill>
          <a:blip r:embed="rId5"/>
          <a:stretch/>
        </p:blipFill>
        <p:spPr>
          <a:xfrm>
            <a:off x="5194440" y="1981080"/>
            <a:ext cx="3327120" cy="731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5211720" y="3573360"/>
            <a:ext cx="331308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2e6c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Don’t forget that the second part of the expression also adds a factor of </a:t>
            </a:r>
            <a:r>
              <a:rPr b="0" i="1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x</a:t>
            </a:r>
            <a:r>
              <a:rPr b="0" lang="en-GB" sz="2000" spc="-1" strike="noStrike">
                <a:solidFill>
                  <a:srgbClr val="2e6cb8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506520" y="5327640"/>
            <a:ext cx="805788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7"/>
          <a:stretch/>
        </p:blipFill>
        <p:spPr>
          <a:xfrm>
            <a:off x="500040" y="4816440"/>
            <a:ext cx="805356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8"/>
          <a:stretch/>
        </p:blipFill>
        <p:spPr>
          <a:xfrm>
            <a:off x="1352520" y="3902040"/>
            <a:ext cx="8053560" cy="461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506520" y="3108240"/>
            <a:ext cx="805176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480960" y="2262240"/>
            <a:ext cx="8059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37:27Z</dcterms:created>
  <dc:creator/>
  <dc:description/>
  <dc:language>en-US</dc:language>
  <cp:lastModifiedBy/>
  <dcterms:modified xsi:type="dcterms:W3CDTF">2011-12-08T11:37:33Z</dcterms:modified>
  <cp:revision>1</cp:revision>
  <dc:subject/>
  <dc:title/>
</cp:coreProperties>
</file>