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303-4606-4127-A604-6F0C9A1B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150-8130-4E45-B575-E87B59B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9F8-0C77-47EA-9A53-1024DE91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EA1-5C90-457D-A0A5-AD476309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365-A510-4F67-A5F8-121069DD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311-AB4A-4176-BAD7-8C6C24CA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8A0-DD75-482F-B40B-4F6BFDD4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4C6-9060-4332-B0CB-F7F754F2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935-6461-4E5A-9290-85E4E1AA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F14-FF7A-45F2-845B-E7BAF079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7FC-9A3D-4601-81E4-91503D1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E03-CB43-45FD-A87C-F3CB378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A524-4A27-45F2-9CDC-6618B89BA3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914400" y="26035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749160" y="59500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5356080" y="1636560"/>
            <a:ext cx="3560760" cy="29530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895320" y="55832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01800" y="52419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907920" y="47912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914400" y="3992400"/>
            <a:ext cx="8229600" cy="8287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895320" y="306720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890640" y="34196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493560" y="1731960"/>
            <a:ext cx="8229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341280" y="2359080"/>
            <a:ext cx="487692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254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884160" y="3408480"/>
            <a:ext cx="47484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84160" y="5218200"/>
            <a:ext cx="4741920" cy="4633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426960" y="3870360"/>
            <a:ext cx="474192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6"/>
          <a:stretch/>
        </p:blipFill>
        <p:spPr>
          <a:xfrm>
            <a:off x="1262160" y="4254480"/>
            <a:ext cx="474192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7"/>
          <a:stretch/>
        </p:blipFill>
        <p:spPr>
          <a:xfrm>
            <a:off x="1146240" y="4638600"/>
            <a:ext cx="4748040" cy="463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8"/>
          <a:stretch/>
        </p:blipFill>
        <p:spPr>
          <a:xfrm>
            <a:off x="1755720" y="5645160"/>
            <a:ext cx="474840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9"/>
          <a:stretch/>
        </p:blipFill>
        <p:spPr>
          <a:xfrm>
            <a:off x="5391000" y="2282760"/>
            <a:ext cx="3560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2" descr=""/>
          <p:cNvPicPr/>
          <p:nvPr/>
        </p:nvPicPr>
        <p:blipFill>
          <a:blip r:embed="rId1"/>
          <a:stretch/>
        </p:blipFill>
        <p:spPr>
          <a:xfrm>
            <a:off x="360360" y="1712880"/>
            <a:ext cx="8362800" cy="7984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914400" y="2419200"/>
            <a:ext cx="42609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890640" y="4290840"/>
            <a:ext cx="8229600" cy="9399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5"/>
          <a:stretch/>
        </p:blipFill>
        <p:spPr>
          <a:xfrm>
            <a:off x="895320" y="3693960"/>
            <a:ext cx="8229600" cy="579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6"/>
          <a:stretch/>
        </p:blipFill>
        <p:spPr>
          <a:xfrm>
            <a:off x="5302080" y="1924200"/>
            <a:ext cx="33861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1"/>
          <a:stretch/>
        </p:blipFill>
        <p:spPr>
          <a:xfrm>
            <a:off x="317520" y="2359080"/>
            <a:ext cx="5083200" cy="7984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5400720" y="2266920"/>
            <a:ext cx="338760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4"/>
          <a:stretch/>
        </p:blipFill>
        <p:spPr>
          <a:xfrm>
            <a:off x="1212840" y="4906800"/>
            <a:ext cx="669276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334800" y="1639800"/>
            <a:ext cx="508500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2"/>
          <a:stretch/>
        </p:blipFill>
        <p:spPr>
          <a:xfrm>
            <a:off x="1322280" y="2127240"/>
            <a:ext cx="69138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3"/>
          <a:stretch/>
        </p:blipFill>
        <p:spPr>
          <a:xfrm>
            <a:off x="1316160" y="3078000"/>
            <a:ext cx="7529400" cy="92736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4"/>
          <a:stretch/>
        </p:blipFill>
        <p:spPr>
          <a:xfrm>
            <a:off x="1822320" y="4170240"/>
            <a:ext cx="752328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5"/>
          <a:stretch/>
        </p:blipFill>
        <p:spPr>
          <a:xfrm>
            <a:off x="682560" y="1054080"/>
            <a:ext cx="8137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2" descr=""/>
          <p:cNvPicPr/>
          <p:nvPr/>
        </p:nvPicPr>
        <p:blipFill>
          <a:blip r:embed="rId1"/>
          <a:stretch/>
        </p:blipFill>
        <p:spPr>
          <a:xfrm>
            <a:off x="-208080" y="4138560"/>
            <a:ext cx="6913800" cy="46368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2"/>
          <a:stretch/>
        </p:blipFill>
        <p:spPr>
          <a:xfrm>
            <a:off x="633240" y="2170080"/>
            <a:ext cx="7523280" cy="792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3"/>
          <a:stretch/>
        </p:blipFill>
        <p:spPr>
          <a:xfrm>
            <a:off x="907920" y="1133640"/>
            <a:ext cx="8809200" cy="9270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4"/>
          <a:stretch/>
        </p:blipFill>
        <p:spPr>
          <a:xfrm>
            <a:off x="-36360" y="3213000"/>
            <a:ext cx="7527600" cy="46368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9" descr=""/>
          <p:cNvPicPr/>
          <p:nvPr/>
        </p:nvPicPr>
        <p:blipFill>
          <a:blip r:embed="rId5"/>
          <a:stretch/>
        </p:blipFill>
        <p:spPr>
          <a:xfrm>
            <a:off x="5645160" y="1262160"/>
            <a:ext cx="25351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8:17Z</dcterms:created>
  <dc:creator/>
  <dc:description/>
  <dc:language>en-US</dc:language>
  <cp:lastModifiedBy/>
  <dcterms:modified xsi:type="dcterms:W3CDTF">2015-06-12T12:44:26Z</dcterms:modified>
  <cp:revision>1</cp:revision>
  <dc:subject/>
  <dc:title/>
</cp:coreProperties>
</file>