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87E-3E34-46B9-8904-97EB9588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39E-36A7-4467-864F-365AEDCA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35A-1C69-4C5B-BD5F-8DF2D208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869-59CC-4D5A-A354-5CD18D1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8FB-92D3-4B95-B4AE-6151A85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3B7-8D9B-4D9C-A491-F27FCC5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9BB-9567-4C9B-9563-FE66854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FDA-E920-438F-B71C-2C091C9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C6E-4AED-46DF-814E-4B3C5E16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341-B147-4F52-9289-FBDA2ED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F60-1183-40AA-93FE-3BBA7EFC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8B3-BB0E-47D6-BBE4-366A3EE2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5B3A-3502-4644-B56F-48877D5FC7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401840" y="2206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573200" y="26640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328760" y="31338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185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2090880" y="454824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79480" y="41148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1328760" y="364500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963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6" descr=""/>
          <p:cNvPicPr/>
          <p:nvPr/>
        </p:nvPicPr>
        <p:blipFill>
          <a:blip r:embed="rId3"/>
          <a:stretch/>
        </p:blipFill>
        <p:spPr>
          <a:xfrm>
            <a:off x="1395360" y="2414520"/>
            <a:ext cx="3541680" cy="577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42840" y="3206880"/>
            <a:ext cx="76564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2:32Z</dcterms:created>
  <dc:creator/>
  <dc:description/>
  <dc:language>en-US</dc:language>
  <cp:lastModifiedBy/>
  <dcterms:modified xsi:type="dcterms:W3CDTF">2011-12-08T11:52:37Z</dcterms:modified>
  <cp:revision>1</cp:revision>
  <dc:subject/>
  <dc:title/>
</cp:coreProperties>
</file>