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775-10E8-478B-8FA0-DE3C88DC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F4B-1FFB-47F0-9049-4EFB982A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B97-1C8D-434C-9981-DEB6E531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DB1-E12E-4F0B-9551-295AF544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846-2969-4841-ABB0-460A7DA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447-7426-4603-8AE9-D9D7E5F6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196-18A7-4074-811F-D44CAFC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DA9-CCA2-48E0-8A1D-9809823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C61-7B0A-417A-A018-070D082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DD0-12B9-44CA-B0D6-F3324A4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124-5568-46C6-B4A9-D7F77F3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50D-1727-4E90-9B01-821730F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18A2-C677-468D-94C2-1342144057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531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044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"/>
          <p:cNvPicPr/>
          <p:nvPr/>
        </p:nvPicPr>
        <p:blipFill>
          <a:blip r:embed="rId1"/>
          <a:stretch/>
        </p:blipFill>
        <p:spPr>
          <a:xfrm>
            <a:off x="5951520" y="2525760"/>
            <a:ext cx="249408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500040" y="2706840"/>
            <a:ext cx="8229600" cy="1199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7760" y="192564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5"/>
          <p:cNvSpPr/>
          <p:nvPr/>
        </p:nvSpPr>
        <p:spPr>
          <a:xfrm>
            <a:off x="6372360" y="3151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6"/>
          <p:cNvSpPr/>
          <p:nvPr/>
        </p:nvSpPr>
        <p:spPr>
          <a:xfrm>
            <a:off x="7020000" y="3151080"/>
            <a:ext cx="28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7"/>
          <p:cNvSpPr/>
          <p:nvPr/>
        </p:nvSpPr>
        <p:spPr>
          <a:xfrm>
            <a:off x="7607160" y="3138480"/>
            <a:ext cx="2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TextBox 48"/>
          <p:cNvGrpSpPr/>
          <p:nvPr/>
        </p:nvGrpSpPr>
        <p:grpSpPr>
          <a:xfrm>
            <a:off x="7912080" y="3743280"/>
            <a:ext cx="457200" cy="371520"/>
            <a:chOff x="7912080" y="3743280"/>
            <a:chExt cx="457200" cy="371520"/>
          </a:xfrm>
        </p:grpSpPr>
        <p:pic>
          <p:nvPicPr>
            <p:cNvPr id="53" name="TextBox 48" descr=""/>
            <p:cNvPicPr/>
            <p:nvPr/>
          </p:nvPicPr>
          <p:blipFill>
            <a:blip r:embed="rId5"/>
            <a:stretch/>
          </p:blipFill>
          <p:spPr>
            <a:xfrm>
              <a:off x="7913160" y="3743280"/>
              <a:ext cx="4557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12080" y="3743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487440" y="603576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493560" y="56386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493560" y="521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500040" y="4797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487440" y="3962520"/>
            <a:ext cx="8229600" cy="8348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487440" y="2359080"/>
            <a:ext cx="82296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5979960" y="1908000"/>
            <a:ext cx="26276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01800" y="2670120"/>
            <a:ext cx="80532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6516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16436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740720" y="257508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TextBox 12"/>
          <p:cNvGrpSpPr/>
          <p:nvPr/>
        </p:nvGrpSpPr>
        <p:grpSpPr>
          <a:xfrm>
            <a:off x="8064360" y="3187800"/>
            <a:ext cx="457200" cy="368280"/>
            <a:chOff x="8064360" y="3187800"/>
            <a:chExt cx="457200" cy="368280"/>
          </a:xfrm>
        </p:grpSpPr>
        <p:pic>
          <p:nvPicPr>
            <p:cNvPr id="69" name="TextBox 12" descr=""/>
            <p:cNvPicPr/>
            <p:nvPr/>
          </p:nvPicPr>
          <p:blipFill>
            <a:blip r:embed="rId5"/>
            <a:stretch/>
          </p:blipFill>
          <p:spPr>
            <a:xfrm>
              <a:off x="8065440" y="3187800"/>
              <a:ext cx="453960" cy="3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064360" y="3187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193240" cy="8967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3"/>
          <a:stretch/>
        </p:blipFill>
        <p:spPr>
          <a:xfrm>
            <a:off x="1395360" y="3786120"/>
            <a:ext cx="311004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786040"/>
            <a:ext cx="805356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5"/>
          <a:stretch/>
        </p:blipFill>
        <p:spPr>
          <a:xfrm>
            <a:off x="506520" y="3200400"/>
            <a:ext cx="80578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0:02Z</dcterms:created>
  <dc:creator/>
  <dc:description/>
  <dc:language>en-US</dc:language>
  <cp:lastModifiedBy/>
  <dcterms:modified xsi:type="dcterms:W3CDTF">2011-12-08T11:40:51Z</dcterms:modified>
  <cp:revision>1</cp:revision>
  <dc:subject/>
  <dc:title/>
</cp:coreProperties>
</file>