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D5A-905B-4748-89FC-8CE41E53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5AA-93BE-4229-A390-BDC12CC4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307-1F00-4778-A18F-5C04308D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96C-B109-481D-B017-DD532796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923-7DD3-4435-9824-83B0964E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705-5B51-41D1-89E4-49AD2546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B04-C753-4499-AAB2-CB71235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757-FDA3-4BB3-8005-B33ADBA9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31F-F60B-4A98-8CC8-4D0ACCF1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70C-00AF-4BAC-B8F6-80C31C2A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851-D338-427C-BF39-3F46838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0D1-48F7-485C-A7D8-DBA0CBF5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AC46-6E19-4037-80C0-3EFA1012A4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859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1403280" y="3789360"/>
            <a:ext cx="388944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2e6c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You could use a GDC to plot the graph of the fun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901800" y="2457360"/>
            <a:ext cx="82296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2" descr=""/>
          <p:cNvPicPr/>
          <p:nvPr/>
        </p:nvPicPr>
        <p:blipFill>
          <a:blip r:embed="rId1"/>
          <a:stretch/>
        </p:blipFill>
        <p:spPr>
          <a:xfrm>
            <a:off x="341280" y="1785960"/>
            <a:ext cx="8193240" cy="8906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1" descr=""/>
          <p:cNvPicPr/>
          <p:nvPr/>
        </p:nvPicPr>
        <p:blipFill>
          <a:blip r:embed="rId3"/>
          <a:stretch/>
        </p:blipFill>
        <p:spPr>
          <a:xfrm>
            <a:off x="5572080" y="3060720"/>
            <a:ext cx="296856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4"/>
          <a:stretch/>
        </p:blipFill>
        <p:spPr>
          <a:xfrm>
            <a:off x="6278400" y="4840200"/>
            <a:ext cx="2243160" cy="517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1060560" y="5340240"/>
            <a:ext cx="805320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1773360" y="4900680"/>
            <a:ext cx="805968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957240" y="4541760"/>
            <a:ext cx="805356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884160" y="4078440"/>
            <a:ext cx="8058240" cy="4633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944640" y="3492360"/>
            <a:ext cx="805320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1182600" y="3090960"/>
            <a:ext cx="8058240" cy="463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1"/>
          <a:stretch/>
        </p:blipFill>
        <p:spPr>
          <a:xfrm>
            <a:off x="895320" y="2646360"/>
            <a:ext cx="805356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2" descr=""/>
          <p:cNvPicPr/>
          <p:nvPr/>
        </p:nvPicPr>
        <p:blipFill>
          <a:blip r:embed="rId1"/>
          <a:stretch/>
        </p:blipFill>
        <p:spPr>
          <a:xfrm>
            <a:off x="341280" y="228600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2254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3"/>
          <a:stretch/>
        </p:blipFill>
        <p:spPr>
          <a:xfrm>
            <a:off x="927000" y="4065480"/>
            <a:ext cx="8051760" cy="7876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4"/>
          <a:stretch/>
        </p:blipFill>
        <p:spPr>
          <a:xfrm>
            <a:off x="927000" y="3462480"/>
            <a:ext cx="8051760" cy="46332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5"/>
          <a:stretch/>
        </p:blipFill>
        <p:spPr>
          <a:xfrm>
            <a:off x="927000" y="3017880"/>
            <a:ext cx="80517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2:44Z</dcterms:created>
  <dc:creator/>
  <dc:description/>
  <dc:language>en-US</dc:language>
  <cp:lastModifiedBy/>
  <dcterms:modified xsi:type="dcterms:W3CDTF">2011-12-08T11:42:49Z</dcterms:modified>
  <cp:revision>1</cp:revision>
  <dc:subject/>
  <dc:title/>
</cp:coreProperties>
</file>