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7DF-8493-4F7C-B22A-DA114227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025-F9AE-4D96-8719-8B8A290A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E63-3F13-4D9D-BF83-920F624A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50C-FE85-4E1B-A913-CC014781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AD4-6405-485D-9088-2C2C5FD2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652-14A4-4780-8967-99B5D118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834-F5D1-470D-A49A-0B7F4838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84D-8979-4C1D-A088-EB060881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204-5FA5-4A69-858B-1584B48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743-36AE-4C5B-8B6C-0BF5D50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5D7-19AD-4D4C-85B8-9EDACEF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F24-7F95-4323-B737-53B6762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6C60-7E39-4086-AF2E-9CD0AEA837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40957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219480" y="5241960"/>
            <a:ext cx="361944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1384200" y="1916280"/>
            <a:ext cx="4095720" cy="87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2419200" y="4730760"/>
            <a:ext cx="612144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2766960" y="4048200"/>
            <a:ext cx="4681440" cy="6206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52520" y="3425760"/>
            <a:ext cx="6462720" cy="6224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22280" y="29811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463680" y="1768320"/>
            <a:ext cx="8650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1409760" y="2349360"/>
            <a:ext cx="2944800" cy="2159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07960" y="4724280"/>
            <a:ext cx="151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341280" y="2792520"/>
            <a:ext cx="83646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3"/>
          <a:stretch/>
        </p:blipFill>
        <p:spPr>
          <a:xfrm>
            <a:off x="682560" y="3718080"/>
            <a:ext cx="8229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193240" cy="16891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506520" y="3322800"/>
            <a:ext cx="8057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4:30Z</dcterms:created>
  <dc:creator/>
  <dc:description/>
  <dc:language>en-US</dc:language>
  <cp:lastModifiedBy/>
  <dcterms:modified xsi:type="dcterms:W3CDTF">2011-12-08T11:54:35Z</dcterms:modified>
  <cp:revision>1</cp:revision>
  <dc:subject/>
  <dc:title/>
</cp:coreProperties>
</file>