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55C-8273-4DDD-B7DA-312E1616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6AB-CFF0-4601-A5E7-CBE8778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397-C5E6-432B-9D8A-C7C7D3B7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B06-DCC0-4FAE-AB33-D3926101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8A1-A079-4E54-83E3-3C5EF2E4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E1B-DCFB-4692-9DE5-682E9709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A4B-74E1-4D0B-8A73-7CFAF36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20E1-6361-46FD-A3A0-07F8D52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887-4682-4327-B12C-DC11470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365-2102-401F-A5EC-9C13211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83B-7B4C-4F1D-923A-F075E207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84A-BAED-43D1-93B5-64325E34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D12F-8AC7-4E53-84EC-857CA81500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3"/>
          <a:stretch/>
        </p:blipFill>
        <p:spPr>
          <a:xfrm>
            <a:off x="1395360" y="2992320"/>
            <a:ext cx="45180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98520" y="2425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859200"/>
            <a:ext cx="5114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5881680" y="1628640"/>
            <a:ext cx="2665440" cy="2406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305000" y="5346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414440" y="35179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414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1401840" y="25844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8"/>
          <a:stretch/>
        </p:blipFill>
        <p:spPr>
          <a:xfrm>
            <a:off x="1292400" y="4950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9"/>
          <a:stretch/>
        </p:blipFill>
        <p:spPr>
          <a:xfrm>
            <a:off x="1298520" y="4011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0"/>
          <a:stretch/>
        </p:blipFill>
        <p:spPr>
          <a:xfrm>
            <a:off x="1292400" y="44928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1"/>
          <a:stretch/>
        </p:blipFill>
        <p:spPr>
          <a:xfrm>
            <a:off x="1292400" y="21765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3:26Z</dcterms:created>
  <dc:creator/>
  <dc:description/>
  <dc:language>en-US</dc:language>
  <cp:lastModifiedBy/>
  <dcterms:modified xsi:type="dcterms:W3CDTF">2011-12-08T11:53:32Z</dcterms:modified>
  <cp:revision>1</cp:revision>
  <dc:subject/>
  <dc:title/>
</cp:coreProperties>
</file>