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A4A-18B6-4277-A359-B0AEAB35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BEE-E82F-47A8-9411-4C4AA612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054-E5E6-4A0A-BF23-821C7370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752-3E39-4556-BE06-4901BDAB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9FC-6A37-4DBA-8AA1-6F9BDD4A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09F-A0B3-4223-8C02-F16F11C6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C2D-45A7-40F3-96B3-F35E27EE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884-FBD0-48F9-9D2A-BC745735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3A0-0356-454B-B5BF-00A064C2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736-FA13-4138-90A4-FD5FD475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01E-03CB-4909-A5B5-E159C164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D3D-48A1-45F1-9897-7F3081A6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90A2-8B29-4ADD-A1E7-B21D3AA626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401760" y="993600"/>
            <a:ext cx="813276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116000" y="2462040"/>
            <a:ext cx="31035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41280" y="192564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79380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9" descr=""/>
          <p:cNvPicPr/>
          <p:nvPr/>
        </p:nvPicPr>
        <p:blipFill>
          <a:blip r:embed="rId3"/>
          <a:stretch/>
        </p:blipFill>
        <p:spPr>
          <a:xfrm>
            <a:off x="1395360" y="2560680"/>
            <a:ext cx="31100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1566720" y="4724280"/>
            <a:ext cx="8064720" cy="12798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901800" y="3797280"/>
            <a:ext cx="8229600" cy="105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6"/>
          <a:stretch/>
        </p:blipFill>
        <p:spPr>
          <a:xfrm>
            <a:off x="5508720" y="2565360"/>
            <a:ext cx="3276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1"/>
          <a:stretch/>
        </p:blipFill>
        <p:spPr>
          <a:xfrm>
            <a:off x="1182600" y="4668840"/>
            <a:ext cx="8058240" cy="4698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2"/>
          <a:stretch/>
        </p:blipFill>
        <p:spPr>
          <a:xfrm>
            <a:off x="347760" y="1852560"/>
            <a:ext cx="819288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3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11" descr=""/>
          <p:cNvPicPr/>
          <p:nvPr/>
        </p:nvPicPr>
        <p:blipFill>
          <a:blip r:embed="rId4"/>
          <a:stretch/>
        </p:blipFill>
        <p:spPr>
          <a:xfrm>
            <a:off x="5413320" y="3187800"/>
            <a:ext cx="3108240" cy="8776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13" descr=""/>
          <p:cNvPicPr/>
          <p:nvPr/>
        </p:nvPicPr>
        <p:blipFill>
          <a:blip r:embed="rId5"/>
          <a:stretch/>
        </p:blipFill>
        <p:spPr>
          <a:xfrm>
            <a:off x="6059520" y="4462560"/>
            <a:ext cx="2462040" cy="877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6"/>
          <a:stretch/>
        </p:blipFill>
        <p:spPr>
          <a:xfrm>
            <a:off x="1060560" y="6004080"/>
            <a:ext cx="805968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7"/>
          <a:stretch/>
        </p:blipFill>
        <p:spPr>
          <a:xfrm>
            <a:off x="907920" y="5589720"/>
            <a:ext cx="8060040" cy="4633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8"/>
          <a:stretch/>
        </p:blipFill>
        <p:spPr>
          <a:xfrm>
            <a:off x="1176480" y="5108400"/>
            <a:ext cx="805320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9"/>
          <a:stretch/>
        </p:blipFill>
        <p:spPr>
          <a:xfrm>
            <a:off x="1163520" y="3852720"/>
            <a:ext cx="8059680" cy="9208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0"/>
          <a:stretch/>
        </p:blipFill>
        <p:spPr>
          <a:xfrm>
            <a:off x="890640" y="3067200"/>
            <a:ext cx="8058240" cy="9190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1"/>
          <a:stretch/>
        </p:blipFill>
        <p:spPr>
          <a:xfrm>
            <a:off x="901800" y="2548080"/>
            <a:ext cx="80532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1:42Z</dcterms:created>
  <dc:creator/>
  <dc:description/>
  <dc:language>en-US</dc:language>
  <cp:lastModifiedBy/>
  <dcterms:modified xsi:type="dcterms:W3CDTF">2011-12-08T11:41:47Z</dcterms:modified>
  <cp:revision>1</cp:revision>
  <dc:subject/>
  <dc:title/>
</cp:coreProperties>
</file>