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27F-6657-4C28-8154-3159D120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439-64FB-4E10-A3DB-4F3954C8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0CF-D79E-4094-842D-26E12E53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F48-67F7-46A9-AD25-FD200A03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5A49-C503-484B-B1BA-2846B339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5F4-A2BC-4122-9D6C-866F7F10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340-7A49-4773-80A0-C7BF0046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965-0D13-4DC8-81E5-D1C2008C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4B6-9737-4D4E-9696-980CD93D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5ED8-151E-45E2-BCFD-E2B1F2BD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3D3-5518-4C2F-844D-FE2E884D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B149-CCC1-4FC0-90CC-713A054B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E33F-38FE-4CC4-A63A-0A057BBAB45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81327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781200" y="2505240"/>
            <a:ext cx="83628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476280" y="18525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657440" y="304812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1670040" y="3517920"/>
            <a:ext cx="8229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1"/>
          <a:stretch/>
        </p:blipFill>
        <p:spPr>
          <a:xfrm>
            <a:off x="341280" y="163980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3"/>
          <a:stretch/>
        </p:blipFill>
        <p:spPr>
          <a:xfrm>
            <a:off x="1755720" y="387684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4"/>
          <a:stretch/>
        </p:blipFill>
        <p:spPr>
          <a:xfrm>
            <a:off x="1749600" y="340200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5"/>
          <a:stretch/>
        </p:blipFill>
        <p:spPr>
          <a:xfrm>
            <a:off x="914400" y="286560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6"/>
          <a:stretch/>
        </p:blipFill>
        <p:spPr>
          <a:xfrm>
            <a:off x="901800" y="2200320"/>
            <a:ext cx="8229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2" descr=""/>
          <p:cNvPicPr/>
          <p:nvPr/>
        </p:nvPicPr>
        <p:blipFill>
          <a:blip r:embed="rId1"/>
          <a:stretch/>
        </p:blipFill>
        <p:spPr>
          <a:xfrm>
            <a:off x="341280" y="264636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5858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3"/>
          <a:stretch/>
        </p:blipFill>
        <p:spPr>
          <a:xfrm>
            <a:off x="1195560" y="4737240"/>
            <a:ext cx="8051760" cy="61596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4"/>
          <a:stretch/>
        </p:blipFill>
        <p:spPr>
          <a:xfrm>
            <a:off x="895320" y="3981600"/>
            <a:ext cx="8053560" cy="8348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5"/>
          <a:stretch/>
        </p:blipFill>
        <p:spPr>
          <a:xfrm>
            <a:off x="1127160" y="3309840"/>
            <a:ext cx="80596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44:55Z</dcterms:created>
  <dc:creator/>
  <dc:description/>
  <dc:language>en-US</dc:language>
  <cp:lastModifiedBy/>
  <dcterms:modified xsi:type="dcterms:W3CDTF">2011-12-08T11:44:59Z</dcterms:modified>
  <cp:revision>1</cp:revision>
  <dc:subject/>
  <dc:title/>
</cp:coreProperties>
</file>