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86B-1BE1-4F23-83AE-830385B9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CB8-2480-4F71-A19E-5E6355D8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A6E-60B5-4733-ADDD-4FEFC7E8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D4A-9C64-4FB7-940C-84B53BB7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2E3-467A-497E-881E-C88612B9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CC0-0B67-44C5-9101-3602AAFF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B07-B379-4AC5-AD81-034BC5FF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5F7-5A3E-4E42-91BC-8A66D580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73D-FF82-4CC6-9326-B4746AF0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C6A-9F0B-4AC3-900C-B503B79B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869-55A5-4914-9E2E-4586E152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961-86F3-421F-992D-F87E4267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239E-E388-4709-B32C-EA247264E4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796000" y="1125360"/>
            <a:ext cx="2065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1170000" y="570564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948360" y="2160720"/>
            <a:ext cx="1847880" cy="21906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341280" y="192564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3206880" y="5505480"/>
            <a:ext cx="2608200" cy="7794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1066680" y="531036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901800" y="49132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8"/>
          <a:stretch/>
        </p:blipFill>
        <p:spPr>
          <a:xfrm>
            <a:off x="1163520" y="4352760"/>
            <a:ext cx="822960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9"/>
          <a:stretch/>
        </p:blipFill>
        <p:spPr>
          <a:xfrm>
            <a:off x="1182600" y="3876840"/>
            <a:ext cx="8229600" cy="7315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0"/>
          <a:stretch/>
        </p:blipFill>
        <p:spPr>
          <a:xfrm>
            <a:off x="1176480" y="35654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11"/>
          <a:stretch/>
        </p:blipFill>
        <p:spPr>
          <a:xfrm>
            <a:off x="1189080" y="31766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12"/>
          <a:stretch/>
        </p:blipFill>
        <p:spPr>
          <a:xfrm>
            <a:off x="1182600" y="27669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3"/>
          <a:stretch/>
        </p:blipFill>
        <p:spPr>
          <a:xfrm>
            <a:off x="890640" y="239544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2" descr=""/>
          <p:cNvPicPr/>
          <p:nvPr/>
        </p:nvPicPr>
        <p:blipFill>
          <a:blip r:embed="rId1"/>
          <a:stretch/>
        </p:blipFill>
        <p:spPr>
          <a:xfrm>
            <a:off x="341280" y="3438360"/>
            <a:ext cx="8193240" cy="7988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237816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3"/>
          <a:stretch/>
        </p:blipFill>
        <p:spPr>
          <a:xfrm>
            <a:off x="1182600" y="5924520"/>
            <a:ext cx="8053560" cy="65232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4"/>
          <a:stretch/>
        </p:blipFill>
        <p:spPr>
          <a:xfrm>
            <a:off x="1200240" y="5510160"/>
            <a:ext cx="8053200" cy="5666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5"/>
          <a:stretch/>
        </p:blipFill>
        <p:spPr>
          <a:xfrm>
            <a:off x="1206360" y="5132520"/>
            <a:ext cx="8060040" cy="5061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6"/>
          <a:stretch/>
        </p:blipFill>
        <p:spPr>
          <a:xfrm>
            <a:off x="1195560" y="4784760"/>
            <a:ext cx="8051760" cy="5731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7"/>
          <a:stretch/>
        </p:blipFill>
        <p:spPr>
          <a:xfrm>
            <a:off x="895320" y="4400640"/>
            <a:ext cx="8059680" cy="5428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8"/>
          <a:stretch/>
        </p:blipFill>
        <p:spPr>
          <a:xfrm>
            <a:off x="1200240" y="3906720"/>
            <a:ext cx="80532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3:53Z</dcterms:created>
  <dc:creator/>
  <dc:description/>
  <dc:language>en-US</dc:language>
  <cp:lastModifiedBy/>
  <dcterms:modified xsi:type="dcterms:W3CDTF">2011-12-08T11:44:36Z</dcterms:modified>
  <cp:revision>1</cp:revision>
  <dc:subject/>
  <dc:title/>
</cp:coreProperties>
</file>