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356-F094-4CD0-9329-FCC3E539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10A-8ABC-445B-8822-65FA508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833-5CA1-41CA-B5AC-C9CE5113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053-1C3E-41C0-9F13-2D34462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301-5A53-4F91-B897-441A0FC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C8A-E74B-4E9A-AE5D-8F68E98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13B-7E6C-403F-9E9A-C8382EC0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552-6B27-4D4F-B299-1F33588F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279-6221-462E-BE37-44A7875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69C-388F-4AA9-87A7-5374880B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C97-2366-495F-B108-2285DDDE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321-157C-4E32-9E65-013B7611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8CD-32CF-415C-AA7A-7C1E994AFE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4919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409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6207120" y="198612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2"/>
          <a:stretch/>
        </p:blipFill>
        <p:spPr>
          <a:xfrm>
            <a:off x="914400" y="287172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341280" y="1712880"/>
            <a:ext cx="836460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5731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5"/>
          <a:stretch/>
        </p:blipFill>
        <p:spPr>
          <a:xfrm>
            <a:off x="6199200" y="5065560"/>
            <a:ext cx="231624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920880" y="489600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335240" y="43527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8"/>
          <a:stretch/>
        </p:blipFill>
        <p:spPr>
          <a:xfrm>
            <a:off x="914400" y="3895560"/>
            <a:ext cx="8229600" cy="4636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9"/>
          <a:stretch/>
        </p:blipFill>
        <p:spPr>
          <a:xfrm>
            <a:off x="1146240" y="3328920"/>
            <a:ext cx="8229600" cy="4618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0"/>
          <a:stretch/>
        </p:blipFill>
        <p:spPr>
          <a:xfrm>
            <a:off x="969840" y="2114640"/>
            <a:ext cx="82296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6332400" y="2897280"/>
            <a:ext cx="2409840" cy="2228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890640" y="343224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341280" y="2146320"/>
            <a:ext cx="8193240" cy="1262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4"/>
          <a:stretch/>
        </p:blipFill>
        <p:spPr>
          <a:xfrm>
            <a:off x="682560" y="1054080"/>
            <a:ext cx="785196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6516720" y="5202360"/>
            <a:ext cx="2016000" cy="97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2e6c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Substitute values from part </a:t>
            </a:r>
            <a:r>
              <a:rPr b="1" lang="en-GB" sz="2000" spc="-1" strike="noStrike">
                <a:solidFill>
                  <a:srgbClr val="2e6cb8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2e6cb8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1212840" y="5681520"/>
            <a:ext cx="805356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1901880" y="5241960"/>
            <a:ext cx="4870440" cy="4636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225440" y="4797360"/>
            <a:ext cx="80517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1920960" y="4267080"/>
            <a:ext cx="8058240" cy="4636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1231920" y="3852720"/>
            <a:ext cx="8058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26:44Z</dcterms:created>
  <dc:creator/>
  <dc:description/>
  <dc:language>en-US</dc:language>
  <cp:lastModifiedBy/>
  <dcterms:modified xsi:type="dcterms:W3CDTF">2011-12-08T11:26:51Z</dcterms:modified>
  <cp:revision>1</cp:revision>
  <dc:subject/>
  <dc:title/>
</cp:coreProperties>
</file>